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5A3-9CFB-47DC-AF1D-F050BD12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3D2-98C7-445E-B8F2-2BC91E34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7AF-356A-418D-81C0-F835FEEB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659-D664-4B15-994E-82EF2555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6F9B-1D5A-48A9-AFD1-7703DD4D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0E8-9EA5-423E-8AEF-933E5F57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C3D-6AB0-470A-9A63-CE2D91BD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D9D-164D-4354-9DFB-4AD900B1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412-68B2-4692-A002-2D98A164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D74-1996-4EC7-B1B9-8FECB00A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E783-1617-498D-9919-368C77C8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BD8-053D-41C2-B969-40643711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67BB-BE94-40E0-B744-8034DD121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924360" y="5589720"/>
            <a:ext cx="488952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оц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. др Јована Јоксимовић Ј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28060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68360" y="17733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ДУЛ 3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И СПОРТСКЕ ФАРМАЦИЈЕ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324000" y="2924280"/>
            <a:ext cx="8281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 наставна јединица (једанаест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РГОГЕНА СРЕДСТВА КАО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ПЛЕМЕНТИ У СПОРТУ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изиолошки значај суплементације натријум-хидроген карбонатом/бикарбона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ш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сполаж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рамбе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ханизам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речи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пори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Н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ступ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ре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ензив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изичких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ајањ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3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2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ре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ензив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купљањ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лактат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лаз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раст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иселос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д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Н шт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актор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станк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м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Ј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дан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акв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уферск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стема чи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карбона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главно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лаз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лазм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луј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цептор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тјона п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могућавај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л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одоник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ађ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ћел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ормал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центрациј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карбонат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кстраћелијској течности ј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25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mol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в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нцентрациј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е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5,3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mol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0,3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тријум-хидроген карбонат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тријум-хидроген карбонат/бикарбонати у спор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*дозирање и ергогени ефекти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ћ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оз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HCO</a:t>
            </a:r>
            <a:r>
              <a:rPr b="0" lang="vi-VN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рокуј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разит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бав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етњ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д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дутос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учнин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јареје, болове и грчев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бух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карбона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ит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ло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лик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псула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оде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стовра или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лику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равенозних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је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озирање: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0,2-0,3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г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М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HCO</a:t>
            </a:r>
            <a:r>
              <a:rPr b="0" lang="vi-VN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60-12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физичке 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страживања су показала да се доказани ергогени ефека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HCO</a:t>
            </a:r>
            <a:r>
              <a:rPr b="0" lang="vi-VN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гледа у побољшању спортских перформанси типа трчања и поготово интервалних спринте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акође, показано је д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HCO</a:t>
            </a:r>
            <a:r>
              <a:rPr b="0" lang="vi-VN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 умањује перцепцију умора и време до појаве исцрпље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изиологија креатин-фосфата -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P (Creatine Phospha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-фосфат је доступан ћелијама и веома брзо учествује у производњ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TP-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рачунато је да постоји око 10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 ATP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 и око 12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 CP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 у телу, највише у мишић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TP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P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фосфаге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-фосфат се разлаже и ослобађа фосфате и енергију, која се користи за поновну продукциј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P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ај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P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 поновно направљен тако што се додаје фосфа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P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 (аденозин-дифосфат) у процесу фосфорил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зим који контролише разградњу креатин-фосфата назива се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креатин-кин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Е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нергетски значај фосфагеног сис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сфагени систем функционише у присуству или без присуства кисеоник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(пошто није зависан од кисеоника у литератури се наводи да је систем анаеробн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ком првих 5 секунди вежбања, без обзира на његов интензитет, искључиво се користи систем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A TP–C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онцентрације ATP-а трају 1 – 3 секунде, а CP потпомаже додатних 5 до 8 секун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омбиновано, ATP–CP се може одржати од 3 до 15 секунди и управо у том периоду је највећи потенцијал у испољавању максималне снаг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кон периода искоришћења залиха фосфагеног система, тело мора да настави да користи остале системе, то јест да тражи друге изворе енергиј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нерген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шић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ли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нинг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денозинтрифосфа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–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Т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лобађ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ерги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тпуштају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д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осфат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тва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денозиндифосфа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– 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Д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аби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во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интензивније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наероб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аболич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цес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виј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суст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Т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езбеди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ерги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7-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к. Ра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чи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вар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Т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фосф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ериод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5-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ш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вар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ут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ликолиз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3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оли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љ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ра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почи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ероб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вар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Т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ханиз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ксидатив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осфорила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а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су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исео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68360" y="1197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Дијаграм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мишићног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rcRect l="39016" t="27190" r="33316" b="32456"/>
          <a:stretch/>
        </p:blipFill>
        <p:spPr>
          <a:xfrm>
            <a:off x="1763640" y="1773360"/>
            <a:ext cx="5761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94920" y="1197000"/>
            <a:ext cx="8209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Креатин као ергогено сред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начај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в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у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јави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И 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арсело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1992. год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продаваниј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на тржиш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азличит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5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продаваниј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The London Times reported (August 7 1992) that Linford  Christie, the 100 meter Gold Medalist trained with creatine  before the 1992 Olympic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nd Bodybuilding Monthly reported  that Sally Gunnell, the 400 meter Gold Medalist, also  trained with  creat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e London Times also reported that Colin Jackson, the champion  British 110-meter hurdler, just began taking creatine right before the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lthough he did not win the gold medal at the Olympics, he soon beat the Olympic Gold Medalist, Mark McCoy,  on several occas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ey were using a technique called "creatine loading“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26920" y="3716280"/>
            <a:ext cx="7705800" cy="2808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6283440" cy="3823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1260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јчешћ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итањ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реатин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нтернет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bject 7"/>
          <p:cNvSpPr/>
          <p:nvPr/>
        </p:nvSpPr>
        <p:spPr>
          <a:xfrm>
            <a:off x="468360" y="1341360"/>
            <a:ext cx="736128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7320" bIns="0" anchor="t">
            <a:spAutoFit/>
          </a:bodyPr>
          <a:p>
            <a:pPr marL="3556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Is Creati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Does Creatine Wor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y Does Creatine Wor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o Should Use Creati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Much Creatine Should I Tak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es Creatine Help You Build Musc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es Creatine Help You Lose Fa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To Load Creati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n And Why To Load Creati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To Cycle Creati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es Creatine Make You Retain Wat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Much Water To Drink While Using Creat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Is The Best Type Of Creati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Creatine Saf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es Creatine Cause Cramp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Creatine Safe For Teenag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4308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Calibri"/>
              <a:buAutoNum type="arabicPeriod"/>
              <a:tabLst>
                <a:tab algn="l" pos="35388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Creatine Safe For Wom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5" descr="C:\Users\Vladimir Zivkovic\Desktop\image_skuMT2320202_largeImage_X_450_white.jpg"/>
          <p:cNvPicPr/>
          <p:nvPr/>
        </p:nvPicPr>
        <p:blipFill>
          <a:blip r:embed="rId1"/>
          <a:stretch/>
        </p:blipFill>
        <p:spPr>
          <a:xfrm>
            <a:off x="5076720" y="2349360"/>
            <a:ext cx="300996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новна својства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род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стој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ћ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личина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келетн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зулта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ијететск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доге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нтез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ми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исел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ржа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ари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р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ип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лак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обичаје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хра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с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безбеђ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нев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гетеријанац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ње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аз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доге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извод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тпун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мени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хра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25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хра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ог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ивреме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нтез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ндоге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ржа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осфо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јчеш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~20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етаболизам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ргин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лиц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тион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(уз присуство ензима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креатин синтазе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есто синтезе 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убрез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т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нкреа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келет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воре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с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ришће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глав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келет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(94-95%)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тат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з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убрез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т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лез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сти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,5%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→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креатин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rcRect l="36799" t="48844" r="26122" b="23597"/>
          <a:stretch/>
        </p:blipFill>
        <p:spPr>
          <a:xfrm>
            <a:off x="1835280" y="4005360"/>
            <a:ext cx="4608360" cy="1925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539640" y="59500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Calibri"/>
              </a:rPr>
              <a:t>Креатинин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- споредн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дук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таболизм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реатин фосф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ористи се у процени величине гломерулске филтр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РГОГЕНА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*опште одлике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Ергогена средства су супстанце које спортисти користе како би побољшали своје перформансе (физичке и психичк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ећина ергогених средстава представља елемент тренинга или исхране и нису забрањени за употребу у спор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ргогена средства за које је научним истраживањима показано да могу побољшати спортске перформансе, када се користе по одређеном протоколу у специфичној ситуацији, спортисти могу користи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о су средства која припадају групи А дијететских суплемената (најчешће коришћени креатин и кофеи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ункција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ject 15"/>
          <p:cNvSpPr/>
          <p:nvPr/>
        </p:nvSpPr>
        <p:spPr>
          <a:xfrm>
            <a:off x="2771640" y="1989000"/>
            <a:ext cx="3654720" cy="403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ject 18"/>
          <p:cNvSpPr/>
          <p:nvPr/>
        </p:nvSpPr>
        <p:spPr>
          <a:xfrm>
            <a:off x="3276720" y="4653000"/>
            <a:ext cx="647640" cy="792000"/>
          </a:xfrm>
          <a:custGeom>
            <a:avLst/>
            <a:gdLst>
              <a:gd name="textAreaLeft" fmla="*/ 0 w 647640"/>
              <a:gd name="textAreaRight" fmla="*/ 648000 w 64764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574675" h="792479">
                <a:moveTo>
                  <a:pt x="0" y="396087"/>
                </a:moveTo>
                <a:lnTo>
                  <a:pt x="2623" y="342342"/>
                </a:lnTo>
                <a:lnTo>
                  <a:pt x="10264" y="290794"/>
                </a:lnTo>
                <a:lnTo>
                  <a:pt x="22581" y="241915"/>
                </a:lnTo>
                <a:lnTo>
                  <a:pt x="39231" y="196178"/>
                </a:lnTo>
                <a:lnTo>
                  <a:pt x="59872" y="154053"/>
                </a:lnTo>
                <a:lnTo>
                  <a:pt x="84161" y="116014"/>
                </a:lnTo>
                <a:lnTo>
                  <a:pt x="111756" y="82532"/>
                </a:lnTo>
                <a:lnTo>
                  <a:pt x="142315" y="54079"/>
                </a:lnTo>
                <a:lnTo>
                  <a:pt x="175495" y="31127"/>
                </a:lnTo>
                <a:lnTo>
                  <a:pt x="210953" y="14149"/>
                </a:lnTo>
                <a:lnTo>
                  <a:pt x="248348" y="3615"/>
                </a:lnTo>
                <a:lnTo>
                  <a:pt x="287337" y="0"/>
                </a:lnTo>
                <a:lnTo>
                  <a:pt x="326328" y="3615"/>
                </a:lnTo>
                <a:lnTo>
                  <a:pt x="363725" y="14149"/>
                </a:lnTo>
                <a:lnTo>
                  <a:pt x="399185" y="31127"/>
                </a:lnTo>
                <a:lnTo>
                  <a:pt x="432365" y="54079"/>
                </a:lnTo>
                <a:lnTo>
                  <a:pt x="462923" y="82532"/>
                </a:lnTo>
                <a:lnTo>
                  <a:pt x="490518" y="116014"/>
                </a:lnTo>
                <a:lnTo>
                  <a:pt x="514806" y="154053"/>
                </a:lnTo>
                <a:lnTo>
                  <a:pt x="535446" y="196178"/>
                </a:lnTo>
                <a:lnTo>
                  <a:pt x="552095" y="241915"/>
                </a:lnTo>
                <a:lnTo>
                  <a:pt x="564411" y="290794"/>
                </a:lnTo>
                <a:lnTo>
                  <a:pt x="572052" y="342342"/>
                </a:lnTo>
                <a:lnTo>
                  <a:pt x="574675" y="396087"/>
                </a:lnTo>
                <a:lnTo>
                  <a:pt x="572052" y="449832"/>
                </a:lnTo>
                <a:lnTo>
                  <a:pt x="564411" y="501380"/>
                </a:lnTo>
                <a:lnTo>
                  <a:pt x="552095" y="550259"/>
                </a:lnTo>
                <a:lnTo>
                  <a:pt x="535446" y="595996"/>
                </a:lnTo>
                <a:lnTo>
                  <a:pt x="514806" y="638121"/>
                </a:lnTo>
                <a:lnTo>
                  <a:pt x="490518" y="676160"/>
                </a:lnTo>
                <a:lnTo>
                  <a:pt x="462923" y="709642"/>
                </a:lnTo>
                <a:lnTo>
                  <a:pt x="432365" y="738095"/>
                </a:lnTo>
                <a:lnTo>
                  <a:pt x="399185" y="761047"/>
                </a:lnTo>
                <a:lnTo>
                  <a:pt x="363725" y="778025"/>
                </a:lnTo>
                <a:lnTo>
                  <a:pt x="326328" y="788559"/>
                </a:lnTo>
                <a:lnTo>
                  <a:pt x="287337" y="792175"/>
                </a:lnTo>
                <a:lnTo>
                  <a:pt x="248348" y="788559"/>
                </a:lnTo>
                <a:lnTo>
                  <a:pt x="210953" y="778025"/>
                </a:lnTo>
                <a:lnTo>
                  <a:pt x="175495" y="761047"/>
                </a:lnTo>
                <a:lnTo>
                  <a:pt x="142315" y="738095"/>
                </a:lnTo>
                <a:lnTo>
                  <a:pt x="111756" y="709642"/>
                </a:lnTo>
                <a:lnTo>
                  <a:pt x="84161" y="676160"/>
                </a:lnTo>
                <a:lnTo>
                  <a:pt x="59872" y="638121"/>
                </a:lnTo>
                <a:lnTo>
                  <a:pt x="39231" y="595996"/>
                </a:lnTo>
                <a:lnTo>
                  <a:pt x="22581" y="550259"/>
                </a:lnTo>
                <a:lnTo>
                  <a:pt x="10264" y="501380"/>
                </a:lnTo>
                <a:lnTo>
                  <a:pt x="2623" y="449832"/>
                </a:lnTo>
                <a:lnTo>
                  <a:pt x="0" y="396087"/>
                </a:lnTo>
                <a:close/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3"/>
          <a:srcRect l="38462" t="25221" r="25569" b="68878"/>
          <a:stretch/>
        </p:blipFill>
        <p:spPr>
          <a:xfrm>
            <a:off x="2268360" y="6093000"/>
            <a:ext cx="4680000" cy="4316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8"/>
          <p:cNvSpPr/>
          <p:nvPr/>
        </p:nvSpPr>
        <p:spPr>
          <a:xfrm>
            <a:off x="2268360" y="6093000"/>
            <a:ext cx="475164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38760" y="2997360"/>
            <a:ext cx="21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Регенарација АТП-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то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физичке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9CA77D81.m4a" descr=""/>
          <p:cNvPicPr/>
          <p:nvPr/>
        </p:nvPicPr>
        <p:blipFill>
          <a:blip r:embed="rId4"/>
          <a:stretch/>
        </p:blipFill>
        <p:spPr>
          <a:xfrm>
            <a:off x="432756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852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56000" y="620640"/>
          <a:ext cx="3956040" cy="6067440"/>
        </p:xfrm>
        <a:graphic>
          <a:graphicData uri="http://schemas.openxmlformats.org/drawingml/2006/table">
            <a:tbl>
              <a:tblPr/>
              <a:tblGrid>
                <a:gridCol w="757080"/>
                <a:gridCol w="1515960"/>
                <a:gridCol w="1683000"/>
              </a:tblGrid>
              <a:tr h="406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атин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атинин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g/k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rowSpan="6">
                  <a:txBody>
                    <a:bodyPr lIns="0" rIns="0" tIns="41400" bIns="0" anchor="t">
                      <a:noAutofit/>
                    </a:bodyPr>
                    <a:p>
                      <a:pPr marL="27468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амп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ра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кал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арин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,5-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ос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40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rowSpan="13">
                  <a:txBody>
                    <a:bodyPr lIns="0" rIns="0" tIns="41760" bIns="0" anchor="t">
                      <a:noAutofit/>
                    </a:bodyPr>
                    <a:p>
                      <a:pPr marL="21924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ове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ви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9-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у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ш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-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л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-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-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-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-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-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r>
                        <a:rPr b="0" lang="sr-R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маћи з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,0-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в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844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-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37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-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rowSpan="3">
                  <a:txBody>
                    <a:bodyPr lIns="0" rIns="0" tIns="41760" bIns="0" anchor="t">
                      <a:noAutofit/>
                    </a:bodyPr>
                    <a:p>
                      <a:pPr marL="214200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-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2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илет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700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,0-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ћурет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41760" bIns="0" anchor="t">
                      <a:noAutofit/>
                    </a:bodyPr>
                    <a:p>
                      <a:pPr marL="25560"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58" name="Rectangle 6"/>
          <p:cNvSpPr/>
          <p:nvPr/>
        </p:nvSpPr>
        <p:spPr>
          <a:xfrm>
            <a:off x="2855520" y="18900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утритивни извори креа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1844640"/>
            <a:ext cx="25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ес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имарн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во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табе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ff0000"/>
                </a:solidFill>
                <a:latin typeface="Calibri"/>
              </a:rPr>
              <a:t>Пресно мес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лек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лечн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извод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00 mg/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русниц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20 mg/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Straight Arrow Connector 8"/>
          <p:cNvCxnSpPr/>
          <p:nvPr/>
        </p:nvCxnSpPr>
        <p:spPr>
          <a:xfrm>
            <a:off x="1115640" y="2349000"/>
            <a:ext cx="1152720" cy="108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потреба кр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ина у терапијске сврх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поларна псих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м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ркинсонова бол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антингтонова хоре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трофија мрежњач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миотрофична латерална склеро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реуматоидни артрити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иперхолестеролем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шићне дистроф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bject 10"/>
          <p:cNvSpPr/>
          <p:nvPr/>
        </p:nvSpPr>
        <p:spPr>
          <a:xfrm>
            <a:off x="5580000" y="2924280"/>
            <a:ext cx="2852640" cy="2219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Ергогена дејства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наг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н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76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Повећава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перформансе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код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појединачних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поновљених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ff0000"/>
                </a:solidFill>
                <a:latin typeface="Calibri"/>
              </a:rPr>
              <a:t>спринт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76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интез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ликог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76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апацит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физич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76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ећ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леран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76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lnSpc>
                <a:spcPct val="100000"/>
              </a:lnSpc>
              <a:spcBef>
                <a:spcPts val="476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0000"/>
                </a:solidFill>
                <a:latin typeface="Arial"/>
                <a:ea typeface="Arial"/>
              </a:rPr>
              <a:t>Доња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CS" sz="1800" spc="-1" strike="noStrike">
                <a:solidFill>
                  <a:srgbClr val="ff0000"/>
                </a:solidFill>
                <a:latin typeface="Arial"/>
                <a:ea typeface="Arial"/>
              </a:rPr>
              <a:t>старосна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sr-CS" sz="1800" spc="-1" strike="noStrike">
                <a:solidFill>
                  <a:srgbClr val="ff0000"/>
                </a:solidFill>
                <a:latin typeface="Arial"/>
                <a:ea typeface="Arial"/>
              </a:rPr>
              <a:t>граница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18 </a:t>
            </a:r>
            <a:r>
              <a:rPr b="1" i="1" lang="sr-CS" sz="1800" spc="-1" strike="noStrike">
                <a:solidFill>
                  <a:srgbClr val="ff0000"/>
                </a:solidFill>
                <a:latin typeface="Arial"/>
                <a:ea typeface="Arial"/>
              </a:rPr>
              <a:t>год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Дозирање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јчешћи протоко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аза пуњ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 г или 0,3 г/кг телесне масе дневно, подељено у 4 дозе, у току 5 до 7 д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аза одржав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г – 5 г или 0,03 г/кг телесне масе током  суплементационог пери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требно је између 21 и 28 дана да се  депои попуне и да се постигн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ергогени ефекат креат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172564DB.m4a" descr=""/>
          <p:cNvPicPr/>
          <p:nvPr/>
        </p:nvPicPr>
        <p:blipFill>
          <a:blip r:embed="rId2"/>
          <a:stretch/>
        </p:blipFill>
        <p:spPr>
          <a:xfrm>
            <a:off x="432756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5989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Комбинована примена креатина са другим суплемен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Угљен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хидра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Протеи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Витамин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минера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alibri"/>
                <a:ea typeface="Arial"/>
              </a:rPr>
              <a:t>β-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хидрокс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  <a:ea typeface="Arial"/>
              </a:rPr>
              <a:t>β-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метилбутира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alibri"/>
                <a:ea typeface="Arial"/>
              </a:rPr>
              <a:t>Β –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алани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Calibri"/>
                <a:ea typeface="Arial"/>
              </a:rPr>
              <a:t>α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липо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нск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Arial"/>
              </a:rPr>
              <a:t>кисели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ts val="2373"/>
              </a:lnSpc>
              <a:spcBef>
                <a:spcPts val="388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пуњав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по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одат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бољшано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25 %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товреме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гље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хидр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те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већ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кре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сул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ts val="2373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омбина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зроку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р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пуњав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по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каза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ољ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ефека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ртс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ерформан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88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8080" indent="-282960"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Облици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1.  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Анхидров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2.  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Сол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1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ирув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цит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л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осф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гнезију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ро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Kre Alkalyn-</a:t>
            </a:r>
            <a:r>
              <a:rPr b="1" i="1" lang="sr-CS" sz="1800" spc="-1" strike="noStrike">
                <a:solidFill>
                  <a:srgbClr val="ff0000"/>
                </a:solidFill>
                <a:latin typeface="Calibri"/>
              </a:rPr>
              <a:t>креат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874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3.  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Естр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1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тилест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lnSpc>
                <a:spcPts val="2387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лукон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874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4.  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Ефервесцентне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таблете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26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цит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нохидра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лимунск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иселин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икарбонат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bject 5"/>
          <p:cNvSpPr/>
          <p:nvPr/>
        </p:nvSpPr>
        <p:spPr>
          <a:xfrm rot="16200000">
            <a:off x="4367880" y="2264040"/>
            <a:ext cx="3289320" cy="216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армаколошке разлике између појединих облика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1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ол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њ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табил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нохидр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дата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гљен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хидр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њихов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табилно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енцијал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днос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ол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нохидра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творљивос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положивос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мањи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енцијал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жеље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ејст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астроинтестиналн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ак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па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еопход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мплетн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 vivo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армацеутск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анализ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ол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тврдил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тенцијал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еднос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н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ренутн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ступни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фор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уплемен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Kre-alkalyn </a:t>
            </a: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је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10 </a:t>
            </a: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пута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снажнији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од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обичног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креатина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О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тврдњ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азира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зјав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роизвођач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уферован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ањ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онвертуј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ин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аствор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ређењ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нохидрат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76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Деградациј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ње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ус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вље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снижење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сп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.5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пове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ње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0520" indent="-280080"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95280" y="475920"/>
            <a:ext cx="835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јства креатина на организам – експериментални пода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2-12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едељ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ису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уочен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нежељен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дејства, дуж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реат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овећа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укуп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вод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рганизм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так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мањ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ризи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дехидрац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мањ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зноје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манј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те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рча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фреквенц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каза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племента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њи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убјектив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ећа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мо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нира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соко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пољашњо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емперату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уплемента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реати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ериод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6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есец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тариј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особ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ма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значај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ефека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овећ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ишић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здржљив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наг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ишић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а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смање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м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85840"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bject 6"/>
          <p:cNvSpPr/>
          <p:nvPr/>
        </p:nvSpPr>
        <p:spPr>
          <a:xfrm>
            <a:off x="6372360" y="1268280"/>
            <a:ext cx="312480" cy="474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26BAF966.m4a" descr=""/>
          <p:cNvPicPr/>
          <p:nvPr/>
        </p:nvPicPr>
        <p:blipFill>
          <a:blip r:embed="rId2"/>
          <a:stretch/>
        </p:blipFill>
        <p:spPr>
          <a:xfrm>
            <a:off x="432756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5628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95280" y="475920"/>
            <a:ext cx="835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жељена дејства креат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потенцијални нежељени ефек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пруриту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неугодан укус у усти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стомачни грчев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мучн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конфузија, седац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кратак д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ментална функција (↑ или ↓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же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главобољ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нерв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поспано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депрес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вртоглав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неподношење топло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грозн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аритм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ед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дубока венска тромбо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2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5400" indent="-274320">
              <a:spcBef>
                <a:spcPts val="451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bject 12"/>
          <p:cNvSpPr/>
          <p:nvPr/>
        </p:nvSpPr>
        <p:spPr>
          <a:xfrm>
            <a:off x="4788000" y="2924280"/>
            <a:ext cx="2409840" cy="204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rcRect l="20287" t="17347" r="35800" b="6250"/>
          <a:stretch/>
        </p:blipFill>
        <p:spPr>
          <a:xfrm>
            <a:off x="1332000" y="189000"/>
            <a:ext cx="6656400" cy="6480000"/>
          </a:xfrm>
          <a:prstGeom prst="rect">
            <a:avLst/>
          </a:prstGeom>
          <a:ln w="0">
            <a:noFill/>
          </a:ln>
        </p:spPr>
      </p:pic>
      <p:sp>
        <p:nvSpPr>
          <p:cNvPr id="54" name="Oval 8"/>
          <p:cNvSpPr/>
          <p:nvPr/>
        </p:nvSpPr>
        <p:spPr>
          <a:xfrm>
            <a:off x="1258920" y="907920"/>
            <a:ext cx="936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182520" y="1700280"/>
            <a:ext cx="121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ргог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Straight Arrow Connector 11"/>
          <p:cNvCxnSpPr/>
          <p:nvPr/>
        </p:nvCxnSpPr>
        <p:spPr>
          <a:xfrm flipV="1">
            <a:off x="899640" y="1341000"/>
            <a:ext cx="577080" cy="43272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7" name="Rectangle 17"/>
          <p:cNvSpPr/>
          <p:nvPr/>
        </p:nvSpPr>
        <p:spPr>
          <a:xfrm>
            <a:off x="6084720" y="501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6084720" y="558972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6084720" y="6165720"/>
            <a:ext cx="107964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3564000" y="981000"/>
            <a:ext cx="2520720" cy="792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6084720" y="981000"/>
            <a:ext cx="1800360" cy="216072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3564000" y="3141720"/>
            <a:ext cx="2520720" cy="10792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6084720" y="3141720"/>
            <a:ext cx="1800360" cy="187164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3564000" y="5013360"/>
            <a:ext cx="2520720" cy="1511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166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РГОГЕНА СРЕ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*најважнији представници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Од свих ергогених средстава до сада потврђен ергогени ефекат испољавај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Кофе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Натријум-хидроген карбон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Креат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Ð¡ÑÐ¾Ð´Ð½Ð° ÑÐ»Ð¸ÐºÐ°"/>
          <p:cNvPicPr/>
          <p:nvPr/>
        </p:nvPicPr>
        <p:blipFill>
          <a:blip r:embed="rId2"/>
          <a:srcRect l="26806" t="30247" r="19582" b="0"/>
          <a:stretch/>
        </p:blipFill>
        <p:spPr>
          <a:xfrm>
            <a:off x="7236000" y="4508640"/>
            <a:ext cx="1439640" cy="199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Ð ÐµÐ·ÑÐ»ÑÐ°Ñ ÑÐ»Ð¸ÐºÐ° Ð·Ð° sodium carbonate sport"/>
          <p:cNvPicPr/>
          <p:nvPr/>
        </p:nvPicPr>
        <p:blipFill>
          <a:blip r:embed="rId3"/>
          <a:stretch/>
        </p:blipFill>
        <p:spPr>
          <a:xfrm>
            <a:off x="5724360" y="4437000"/>
            <a:ext cx="1609920" cy="214308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" descr="Ð ÐµÐ·ÑÐ»ÑÐ°Ñ ÑÐ»Ð¸ÐºÐ° Ð·Ð° creatine sport"/>
          <p:cNvPicPr/>
          <p:nvPr/>
        </p:nvPicPr>
        <p:blipFill>
          <a:blip r:embed="rId4"/>
          <a:stretch/>
        </p:blipFill>
        <p:spPr>
          <a:xfrm>
            <a:off x="3851280" y="4437000"/>
            <a:ext cx="208296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8360" y="105264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ФЕ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*Општ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длик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Кофе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ришће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сихоактив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ред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вет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 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ф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кау, ч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чоколад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азн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нергетски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пиц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утритив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ред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Њего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зна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војст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едук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мо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будн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след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ст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ов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оизвод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могућава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зумаци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фе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ргоге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ото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100%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рал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зумира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фе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 апсорбује 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јавља се 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нута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5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ну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зум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ФЕ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*као ергогено/допинг средство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ргогени ефекат доказан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1. стимулише коришће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а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зво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чим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разградњ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шићно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ликог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2. редукује перцепци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мор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бро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кључе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шићн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лака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Повучен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листе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забрањени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супстанц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2004.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год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лист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WADA </a:t>
            </a:r>
            <a:r>
              <a:rPr b="1" lang="sr-Latn-R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15 mcg/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шољиц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кафе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= 100mg = 1.5 mcg/ml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ур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руп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ијететск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пле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kofein-molekul"/>
          <p:cNvPicPr/>
          <p:nvPr/>
        </p:nvPicPr>
        <p:blipFill>
          <a:blip r:embed="rId2"/>
          <a:stretch/>
        </p:blipFill>
        <p:spPr>
          <a:xfrm>
            <a:off x="6012000" y="4722840"/>
            <a:ext cx="27255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ФЕ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*ергогени ефекти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пособ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мање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м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аж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казан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ремен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замор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еликом број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лабораторијски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ото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Продуже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бмаксимал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&gt; 90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Тренинг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виског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нтензитета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 (20-60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sv-SE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 Краткотрај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прамаксималн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тренин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1-5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5.     Ефекат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портови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здржљивост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тан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рени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спортов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6.     Не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фект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портовима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наг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Ð¡ÑÐ¾Ð´Ð½Ð° ÑÐ»Ð¸ÐºÐ°"/>
          <p:cNvPicPr/>
          <p:nvPr/>
        </p:nvPicPr>
        <p:blipFill>
          <a:blip r:embed="rId2"/>
          <a:srcRect l="26806" t="30247" r="19582" b="0"/>
          <a:stretch/>
        </p:blipFill>
        <p:spPr>
          <a:xfrm>
            <a:off x="7093080" y="1844640"/>
            <a:ext cx="15271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ФЕ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*нежељени ефекти и дозирање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нсомн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рв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ахикарди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кок 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астроинтестиналне тего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Дозирањ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-3mg/kg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елесн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ас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60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 тренинг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такмич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6800" indent="-406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Ð¡ÑÐ¾Ð´Ð½Ð° ÑÐ»Ð¸ÐºÐ°"/>
          <p:cNvPicPr/>
          <p:nvPr/>
        </p:nvPicPr>
        <p:blipFill>
          <a:blip r:embed="rId2"/>
          <a:srcRect l="26806" t="30247" r="19582" b="0"/>
          <a:stretch/>
        </p:blipFill>
        <p:spPr>
          <a:xfrm>
            <a:off x="6804000" y="2852640"/>
            <a:ext cx="15271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вои кофеина у одређеним намирниц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1600200"/>
          <a:ext cx="8435880" cy="4079880"/>
        </p:xfrm>
        <a:graphic>
          <a:graphicData uri="http://schemas.openxmlformats.org/drawingml/2006/table">
            <a:tbl>
              <a:tblPr/>
              <a:tblGrid>
                <a:gridCol w="6284880"/>
                <a:gridCol w="21510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оизвод/намир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личина 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ољ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рск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ф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сиц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ан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ф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ољ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о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менк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oca Col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менк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Red Bu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ољ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пл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околад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ет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пи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g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околадни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ли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рно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ф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рно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окола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g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вог</a:t>
                      </a: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ожђа</a:t>
                      </a: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лечној</a:t>
                      </a: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околади</a:t>
                      </a:r>
                      <a:r>
                        <a:rPr b="0" lang="vi-V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g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рн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околад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8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ф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06:32:31Z</dcterms:created>
  <dc:creator>Ivan Srejovic</dc:creator>
  <dc:description/>
  <dc:language>en-US</dc:language>
  <cp:lastModifiedBy>ХХХ</cp:lastModifiedBy>
  <dcterms:modified xsi:type="dcterms:W3CDTF">2020-09-28T12:50:46Z</dcterms:modified>
  <cp:revision>246</cp:revision>
  <dc:subject/>
  <dc:title>ФИЗИОЛОГИЈА КРВИ</dc:title>
</cp:coreProperties>
</file>