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6D23-B769-41E9-A6A2-8C5CE9053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8679-6EB9-4940-925A-55E0C291F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35D9-0288-435A-8810-6DCC579D4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F744-CA36-44D5-9B60-DD4598EC5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AFAD-51AD-417F-ABBC-B170B160F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1D79-1A79-431B-B795-0B6FDB3B4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2706-989E-4D74-9FC0-CE512B50F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B944-11B3-438C-B0FB-E4474D200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62D8-BC0E-4446-BFBA-1F6742D1D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A9CA-F5AB-4FC4-ACE6-25AE4E93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E776-B97F-4FC7-963D-AAEFB541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C457-F64D-4B1A-8A6D-14B06E8C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CD7BA-DCF2-498A-BFB2-764988DBBB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52320" y="2409480"/>
            <a:ext cx="7772400" cy="425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. вежба: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мена ергогених средстава код спортист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пецифичности употребе 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угљених хидрата као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ергогених средстава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835280" y="33336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2294640" y="1197000"/>
            <a:ext cx="44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Интегрисане академске студије фарма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2124000" y="1579680"/>
            <a:ext cx="46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РЕДМЕТ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ПОРТСКА ФАРМ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Гликемијски индек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78920" y="764640"/>
            <a:ext cx="8712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Један од најзначајнијих појмова везаних за метаболизам угљених хидрата јесте гликемијски индекс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ликемијски индекс је број који показује како угљени хидрати из хране утичу на ниво глукозе (шећера) у крв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 дефиницији, глукоза има гликемијски индекс 100, следствено томе, остала храна има нижи индекс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5" descr="Ð ÐµÐ·ÑÐ»ÑÐ°Ñ ÑÐ»Ð¸ÐºÐ° Ð·Ð° glycemic index"/>
          <p:cNvPicPr/>
          <p:nvPr/>
        </p:nvPicPr>
        <p:blipFill>
          <a:blip r:embed="rId1"/>
          <a:stretch/>
        </p:blipFill>
        <p:spPr>
          <a:xfrm>
            <a:off x="1908000" y="2637000"/>
            <a:ext cx="597240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Гликемијски индек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78920" y="1267920"/>
            <a:ext cx="8712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еоријски гледано, низак гликемијски индекс обезбеђује лагано отпуштање глукозе у крв, док намирнице с високим гликемијским индексом то раде брж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уштина је у томе да пре тренинга треба узимати намирнице ниског гликемијског индекса, док у првом сату након физичке активности треба надокнадити енергију узимањем намирница средњег и високог гликемијског индекса и наставити њихово уношење током следећег сата, чиме се обнављају залихе гликоген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5" descr="Ð ÐµÐ·ÑÐ»ÑÐ°Ñ ÑÐ»Ð¸ÐºÐ° Ð·Ð° glycemic index"/>
          <p:cNvPicPr/>
          <p:nvPr/>
        </p:nvPicPr>
        <p:blipFill>
          <a:blip r:embed="rId1"/>
          <a:stretch/>
        </p:blipFill>
        <p:spPr>
          <a:xfrm>
            <a:off x="2982960" y="3860640"/>
            <a:ext cx="307800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начај угљених хидрата у спортској исхра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95280" y="1557360"/>
            <a:ext cx="83628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гљени хидрати представљају основу исхране спортиста, јер директно учествују у депоновању гликогена, који се користи као извор енергије током такмичења и тренинг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Ð ÐµÐ·ÑÐ»ÑÐ°Ñ ÑÐ»Ð¸ÐºÐ° Ð·Ð° ugljeni hidrati kod sportista"/>
          <p:cNvPicPr/>
          <p:nvPr/>
        </p:nvPicPr>
        <p:blipFill>
          <a:blip r:embed="rId1"/>
          <a:stretch/>
        </p:blipFill>
        <p:spPr>
          <a:xfrm>
            <a:off x="2843280" y="2997360"/>
            <a:ext cx="3414600" cy="36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Подела угљених хидрата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90600" y="1915920"/>
            <a:ext cx="83628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гљени хидрати, према хемијској структури, деле се на три велике групе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оносахариде (глукоза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галактоза, фруктоза, сорбитол, манитол)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лигосахариде (сахароза, лактоза, малтоза) 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лисахариде (скроб, амилоза, амилопектин, пектин и тако даље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дела угљених хидрат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90600" y="2420640"/>
            <a:ext cx="83628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оносахариди су прости шећери који се не могу хидролизовати на простије шећер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лигосахариди се састоје од 2 (дисахариди) до 9 моносахарида, а полисахариди садрже већи број моносахари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ликоген припада полисахаридима и представља депо глукозе у мишићима и јетр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ликоге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24000" y="1267920"/>
            <a:ext cx="83628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Гликоген припада полисахаридима и представља депо глукозе у мишићима и јетр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Повишен унос угљених хидрата омогућава повећање залиха мишићног гликогена, до нивоа гликогенске синтез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Депоновање мишићног гликогена је највеће током првог сата после вежбања или такмичењ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Ð¡ÑÐ¾Ð´Ð½Ð° ÑÐ»Ð¸ÐºÐ°"/>
          <p:cNvPicPr/>
          <p:nvPr/>
        </p:nvPicPr>
        <p:blipFill>
          <a:blip r:embed="rId1"/>
          <a:stretch/>
        </p:blipFill>
        <p:spPr>
          <a:xfrm>
            <a:off x="2340000" y="3789360"/>
            <a:ext cx="437184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ликоген у мишићи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78920" y="1413000"/>
            <a:ext cx="8712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Зато је рани унос угљених хидрата после напорног вежбања изузетно важан, јер омогућава непосредан извор супстрата за почетак ефикасног опоравка мишићне ћелије и за боље искоришћење периода повећане синтезе гликоге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7" descr="Ð ÐµÐ·ÑÐ»ÑÐ°Ñ ÑÐ»Ð¸ÐºÐ° Ð·Ð° glikogen in muscle"/>
          <p:cNvPicPr/>
          <p:nvPr/>
        </p:nvPicPr>
        <p:blipFill>
          <a:blip r:embed="rId1"/>
          <a:stretch/>
        </p:blipFill>
        <p:spPr>
          <a:xfrm>
            <a:off x="1979640" y="3429000"/>
            <a:ext cx="526716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гљени хидрат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78920" y="1125360"/>
            <a:ext cx="87123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на се да 1 g угљених хидрата ослобађа 4 kcal, а за спортисте је важна њихова подела на просте (моносахариди) и сложене (олигосахариди и полисахариди) угљене хидрат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сти угљени хидрати брзо подижу ниво глукозе у крви и спортиста треба да их узима када брзо жели да врати потрошену енергију, на пример, после тренинг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" descr="Ð ÐµÐ·ÑÐ»ÑÐ°Ñ ÑÐ»Ð¸ÐºÐ° Ð·Ð° ugljeni hidrati kod sportista"/>
          <p:cNvPicPr/>
          <p:nvPr/>
        </p:nvPicPr>
        <p:blipFill>
          <a:blip r:embed="rId1"/>
          <a:srcRect l="0" t="15117" r="0" b="0"/>
          <a:stretch/>
        </p:blipFill>
        <p:spPr>
          <a:xfrm>
            <a:off x="2268360" y="3500280"/>
            <a:ext cx="4778640" cy="30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сти угљени хидрат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90600" y="1699920"/>
            <a:ext cx="8362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право због наглог скока, а онда последично и пада глукозе у крви, просте угљене хидрате (слаткиши, разни газирани напици, чоколада, производи од рафинисаног шећера, прозводи од белог брашна и тако даље) треба избегавати пре тренинга или такмичењ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Њихово конзумирање непосредно пре такмичења може да изазове хипогликемију, то јест пад шећера у крви и губитак неопходне енергиј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Сложени угљени хидра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90600" y="1988640"/>
            <a:ext cx="83628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 друге стране, сложени угљени хидрати који потичу од интегралних житарица, махунарки, коштуњавих плодова и поврћа разлажу се постепено, па се тако њихов садржај шећера лагано ослобађа у крвоток, што условљава лагано лучење инсулин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ортиста може да их узима најмање сат времена пре такмичења, како би имао довољно енергије за целу утакмицу или меч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2T07:24:21Z</dcterms:created>
  <dc:creator>Vlada Jakovljevic</dc:creator>
  <dc:description/>
  <dc:language>en-US</dc:language>
  <cp:lastModifiedBy>Vladimir Jakovljevic</cp:lastModifiedBy>
  <dcterms:modified xsi:type="dcterms:W3CDTF">2018-11-21T09:10:17Z</dcterms:modified>
  <cp:revision>67</cp:revision>
  <dc:subject/>
  <dc:title>Демијелинизационе болести Мијастенија гравис</dc:title>
</cp:coreProperties>
</file>